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B27-BF4E-4D5F-BEBF-B6C29560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354-68BA-4AAB-9C4B-1E6B0F47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F03-A751-45B6-B250-05167DCB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E36-9F6B-4195-A825-47DB88EE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C4E-3305-4E86-86F8-3A5D7D2D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BA2-D2A5-4A0C-808B-048B10D9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662-1B3F-4E69-9C60-CB42B24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E6B-4575-4671-99A6-CC49AAD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DEB-C5B7-45A2-9BDD-457B8AF2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A5C-0AD1-4F1B-8CF7-2ECA2B5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833-D98C-457F-94F1-9DC5B6C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2BC-F1B3-427D-9CA5-6910E13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E312-FDE9-4558-8454-598AB6DA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и между таблицами являются необходимым элементом структуры БД. Для того, чтобы связь была возможна, таблицы должны иметь общие поля. Чаще всего в одной таблице для связи используется ключ, а в другой таблице это поле не является ключом и называется "внешним ключом". Например, для сопоставления сведений о студентах и о соответствующих им деканатах, следует определить связь по полю "Код" в двух таблицах: СТУДЕНТЫ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ФИО, и т.д.) и СТУДЕНТЫ5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ФИО, ФИО_декана и т.д.). В первой таблице общее поле является ключом, а во второй - внешним ключ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92360" y="18900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и между таблиц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6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дим «Простой запрос», который из БД будет выводить только, экзаменационную ведомость, т.е. ФИО студентов и их оценки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2803680"/>
            <a:ext cx="658836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86043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ется мастер запросов, при помощи которого и создаем нужный нам за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из БД Студенты5 выберем столб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_де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_декан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из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ы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_замде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жим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«Дал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76360" y="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62276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нашему запросу и нажимаем «Гот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130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871560"/>
            <a:ext cx="74995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в конструктор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8920" y="932040"/>
            <a:ext cx="74041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8920" y="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в конструктор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41526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объект, служащий для ввода, изменения и просмотра записей в удобном и приятном для пользователя виде на экране или при печати данных из БД. Форма может содержать данные из одной или нескольких взаимосвязанных таблиц, а также не связанные с таблицами данные. Для описания формы используется методика визуального программ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68360" y="333360"/>
            <a:ext cx="43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оздания формы нажм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 окне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база 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333360"/>
            <a:ext cx="43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49152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анели инструментов нажима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озд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получаем окно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4360" y="33336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2894040"/>
            <a:ext cx="59691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«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проса_на_выбор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возьмем все поля и создадим по этому запросу фор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33336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2409840"/>
            <a:ext cx="59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того, как определены поля для связи, следует оценить тип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ношение "один-ко-многим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наиболее часто используемым типом связи между таблицами. Например, между таблицами "Студенты5” и «Студенты" существует отношение "один-ко-многим": к каждому деканату может относиться несколько различных студентов, но за каждого студента  отвечает один конкретный замдек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идно из рисунка, есть несколько видов разных форм. Выберем для примера «ленточный» и посмотрим результ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4360" y="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92360" y="2355840"/>
            <a:ext cx="5986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ледующем окне выбираем оформление нашей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0920" y="2400480"/>
            <a:ext cx="5915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40464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2355840"/>
            <a:ext cx="5986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аем форму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6777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тим, что в окне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ть пять автоформ. Попробуем создать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втоформу: в столб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Для создания автоформ надо сразу выбирать таблицу или запрос по которым будет создаваться автоформа. Мы выберем таблицу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47640" y="2917800"/>
            <a:ext cx="590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нажатия кнопки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 сразу получаете фор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0000" y="2727360"/>
            <a:ext cx="50544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1915920"/>
            <a:ext cx="79311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пытке закрыть форму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с спросит, желаете ли вы ее сохра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80024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нажали кнопку «Да» в предыдущем окне, то получите возможность задать имя авто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333600"/>
            <a:ext cx="75643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8930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формы конструктором в окне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выбираем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, а также таблицу или запрос по которым будет создаваться фор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2725560"/>
            <a:ext cx="61894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ется конструктор формы. Ваша задача расположить поля таблицы в нужных позициях на форме и задать их размеры, все это выполняется также как работа с рисунками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2959200"/>
            <a:ext cx="7283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"многие-ко-многим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ся только с помощью третьей таблицы, ключ которой состоит из ключевых полей тех таблиц, которые необходимо связать. Например, между таблицами «Студенты5" и «Студенты" имеется отношение "многие-ко-многим", которое реализовано с помощью дополнительной таблицы «Студенты6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им форму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2894040"/>
            <a:ext cx="79311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задания заголовка форме, на строке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бласть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щелкнем правой кнопкой мыши и выберем в контекстном меню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аголовок/примечание фо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2881440"/>
            <a:ext cx="80755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м область для задания заголов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80024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на панели инструментов нажм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анель элем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2894040"/>
            <a:ext cx="8075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мощи кнопки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адпис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вставляем надпись заголовка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2998800"/>
            <a:ext cx="8218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2411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производим оформление формы при помощи контекстного меню и панели инструментов «Форматиро-вание» и получаем форму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147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закрываем конструктор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лагает сохранить форму, нажимаете кнопку «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814716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форме. И теперь для просмотра полученной формы вызываем форму из окна «База данны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3338640"/>
            <a:ext cx="71420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4360" y="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19280" y="831960"/>
            <a:ext cx="648648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рассмотрим добавление переключателей в форму, в режиме конструктора. Для этого в окне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бираем строч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запрос по которому он созд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8000" y="2933640"/>
            <a:ext cx="59025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ношение "один-к-одному"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случае каждая запись в одной таблице может быть связана только с одной записью в другой таблице и наоборот. Этот тип связи используют редко, поскольку такие данные могут быть помещены в одну таблицу. Например, такую связь используют для разделения очень широких таблиц, для отделения части таблицы по соображениям защиты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м форму для заполнения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832040"/>
            <a:ext cx="7570800" cy="496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916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и в предыдущем примере заполняем эту форму и оформляем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6227640" cy="5392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анели инструментов отключа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аст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0001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6491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нажима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руп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ереключател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а затем из списка полей переносим на форму поле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16920" y="907920"/>
            <a:ext cx="1927080" cy="5950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23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на форме получаем рамку для группы переклю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81200" y="981000"/>
            <a:ext cx="6562800" cy="563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2205000"/>
            <a:ext cx="6707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установим два переключателя в полученную рамку. Для чего нажимаем на панели инструментов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ереключа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а затем щелкаем мышкой в том месте на форме, где он должен 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772400" y="765000"/>
            <a:ext cx="1371600" cy="609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327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м группу переключателей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надо настроить свойства этих переклю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1754280"/>
            <a:ext cx="5867280" cy="499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219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настройки свойств, вызываем контекстное меню для конкретного переключателя, в данном случае второго, и задаем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переключателя и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араме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95640" y="1436760"/>
            <a:ext cx="6948360" cy="5421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378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ервого переключателя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будет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а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араме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-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 После чего переименовываем переключатели на форме и получа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65600" y="1268280"/>
            <a:ext cx="541476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м нашу форму под именем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едом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3338640"/>
            <a:ext cx="7573680" cy="2493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определения связей между таблицами след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все открытые таблицы и выполнить команду меню \Сервис\Схема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ить таблицы в окно “Схема данных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ести с помощью мыши ключевое поле одной таблицы в друг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тип связи (1:1, 1:М, М:1) (двойной щелчок по линии связи открывает окно определения типа связ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изменить тип данных для поля, которое связывает таблицу с другой таблицей. Предварительно нужно удалить установленную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2916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получим форму, на которой выбор пола задан переключ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87640" y="1049400"/>
            <a:ext cx="6156360" cy="5808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047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94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023840"/>
            <a:ext cx="8353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кне «База данных» нажмем кнопку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оздания запроса на панели инструментов окна выберем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325600"/>
            <a:ext cx="6301080" cy="4532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00:20Z</dcterms:created>
  <dc:creator>ershov</dc:creator>
  <dc:description/>
  <dc:language>en-US</dc:language>
  <cp:lastModifiedBy>ershov</cp:lastModifiedBy>
  <dcterms:modified xsi:type="dcterms:W3CDTF">2008-10-31T07:05:34Z</dcterms:modified>
  <cp:revision>8</cp:revision>
  <dc:subject/>
  <dc:title>Слайд 1</dc:title>
</cp:coreProperties>
</file>