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C34-09AF-4693-BB8D-53B540DE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702-AAFF-4187-96CF-2BDCB3B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36C-6D9B-4E28-8BE5-6131680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90A-7CF6-471F-AC8B-620C7240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3C9-CA29-45BC-B83A-4350F36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574-573F-4E43-8349-087B91B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A1B-8746-430B-B151-60BC71DF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BDD-8C2E-418F-8D92-01E9AE3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181-F20B-4164-B6CC-F9D4BC8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0A8-C32D-4318-A61D-6E243BD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947-382C-4278-9B33-0354FA3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921-A2A1-43AD-A2C6-2C4BFE1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5C80-F592-4263-8A1E-F2B35F63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бъекты, извлекающие данные из таблиц так, как это определено пользов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омощью запроса можно выбрать, изменить или сгруппировать какие-либо данные, содержащиеся в одной или нескольких таблицах. Ответ на запрос также выглядит в виде таблицы и называ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намическим набором запис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Когда пользователь изменяет данные динамического набора, то эти изменения тут же производятся в табли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2360" y="1890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росы в Acces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 мастера запросов, выберем пункт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тог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нажмем кноп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тоги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090880"/>
            <a:ext cx="6347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ю ваше внимание на то, что подсчитать мы можем Сумм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редний бал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Максим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Мин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i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ам 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сре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л,     его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32000" y="2341440"/>
            <a:ext cx="6012000" cy="451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оследнем окне задаем имя запроса и нажимаем «Готово». В результате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а создания запроса на повторяющиеся записи, такое же, как и в предыдущих случаях, но только в окне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ыбира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вторяющие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03280" y="3033720"/>
            <a:ext cx="6215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ом окне мастера данного запроса, выбираем таблицу или запрос, в которых будем искать повторяющиеся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048040"/>
            <a:ext cx="69487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, задаем поля содержащие повторяющиеся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2138400"/>
            <a:ext cx="6778440" cy="471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ретьем окне выбираем поля которые необходимо вывести вместе с выбранным, во втором окне, п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2286000"/>
            <a:ext cx="663588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запроса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2128680"/>
            <a:ext cx="6851520" cy="472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819000"/>
            <a:ext cx="8459640" cy="603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ем 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строч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екрест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927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не «База данных» нажмем кнопку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запроса на панели инструментов окна выбер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325600"/>
            <a:ext cx="6301080" cy="453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ом окне выбираем таблицу (запрос) для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97200" y="2025720"/>
            <a:ext cx="6346800" cy="4832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ем поля, значения которых станут заголовками строк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2165400"/>
            <a:ext cx="6202440" cy="4692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ыбираем заголовки, для столбцов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851120"/>
            <a:ext cx="6588360" cy="500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выбираем тип вычислений для соотношения наших элементов (в нашем случае интересует просто «Число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2003400"/>
            <a:ext cx="6418440" cy="485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95280" y="1412640"/>
            <a:ext cx="432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2000" y="2077920"/>
            <a:ext cx="627516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тоге мы видим сколько и какую стипендию получают военнообязанные и все прочие студ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8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Ба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на панели инструментов выберем кноп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292480"/>
            <a:ext cx="6346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вается окно конструктора запросов, но перед началом работы надо выбрать таблицы и запросы по которым будет производиться построение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9144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мощи данного запроса получим ведомость оценок на всех мальчиков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9564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этого перенесем нужные поля в строку «Поле» конструктора, а выборку будем осуществлять по полю «Пол». Для этого в строке «Вывод на экран» уберем флажок, чтобы  это поле не отображалось в полученном запр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409920"/>
            <a:ext cx="9144000" cy="34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«Простой запрос», который из БД будет выводить только, экзаменационную ведомость, т.е. ФИО студентов и их оценки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2803680"/>
            <a:ext cx="6588360" cy="405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 строке «Условие отбора» для поля «Пол» щелкнем правой кнопкой мышки и выберем пункт «Построить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2820960"/>
            <a:ext cx="7283520" cy="403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окно «Построение выражения». В верхней части окна поле для построения выражения, под ним возможные логические и арифметические знаки, а также поля для выбора таблиц, форм, функц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2892600"/>
            <a:ext cx="6923160" cy="3965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ем список таблиц и выберем нашу таблицу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во втором окне появятся поля данной таблицы из которых двойным щелчком выберем поле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В знаках выберем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ве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далее наберем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2808360"/>
            <a:ext cx="7139160" cy="404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сохраним наш запрос (при помощи меню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Файл\Сохран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кнопк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хран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анели инструментов). И закроем констру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6499080" cy="219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осмотра запроса, найдем его в окне «База данных» и вызовем двойным щелчком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2373480"/>
            <a:ext cx="6923160" cy="4484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920880"/>
            <a:ext cx="7894800" cy="5937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дим запрос на обновление, при помощи которого каждому военнообязанному студенту получающему стипендию будет добавлено 20% к имеющейся стипендии. Построение осуществляется при помощи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онструк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400720" cy="3322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277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овем конструктор, а затем в меню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ли при помощи Кнопки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на панели инструментов выбер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бно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27280" y="1028880"/>
            <a:ext cx="6516720" cy="552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ожно увидеть появляется строка «Обновление». Теперь переносим поле «стипендия» и в строке обновление, при помощи контекстного меню вызываем «Построить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2905200"/>
            <a:ext cx="8218440" cy="389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яем выражение, которое увеличит нашу стипендию на 20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2703600"/>
            <a:ext cx="6994440" cy="4014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8604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ется мастер запросов, при помощи которого и создаем нужный нам за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з БД Студенты выберем столб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_меха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ч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жим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«Дал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914480"/>
            <a:ext cx="6516720" cy="490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76360" y="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стипендию надо увеличить только военнообязанным, для этого в строке «Условие отбора» вызываем «Построить…» и заполняем следующе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3013200"/>
            <a:ext cx="6635880" cy="3844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340000" y="1600200"/>
            <a:ext cx="41767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наш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3348000"/>
            <a:ext cx="7358040" cy="2379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просмотрим таблицу до обн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1703520"/>
            <a:ext cx="6635880" cy="515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этого запустим запрос на обно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запросы производящие изменения в наших исходных таблицах, спрашивают подтверждение на изм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7643880" cy="233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разрешения на изменения вам будет сообщено какое количество записей подвергнется изме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8002800" cy="246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004760"/>
            <a:ext cx="7570800" cy="5888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дим таблицу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в которой будут поля: ФИО, Математика, Теор_механика, Черчение, Информатика, Стипендия, Военнообязанный. Для этого вызовем «Конструктор», в который вызовем таблицы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а затем в меню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выберем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блицы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явившемся окне зададим имя для новой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8362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просто перенесем все нужные поля в стро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3280" y="2770200"/>
            <a:ext cx="7283520" cy="3941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844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м за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том запустим его из 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7426440" cy="2452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опять увидите предупреждение об измен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06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6756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создаем простой запрос, поэтому выбираем подробную выдачу каждого поля, каждой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1914480"/>
            <a:ext cx="6562800" cy="494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561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общение о количестве 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3289320"/>
            <a:ext cx="8291520" cy="235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лась новая таблица. Теперь ее можно посмот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47640" y="2244600"/>
            <a:ext cx="6491520" cy="461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5502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ов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с новой таблицей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уденты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 меню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брать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даление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4360" y="3687840"/>
            <a:ext cx="7643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362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ок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да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зыва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троить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тро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ы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удалим всех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оеннообяз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6778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68360" y="1599840"/>
            <a:ext cx="5112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47640" y="3343320"/>
            <a:ext cx="6720120" cy="2179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запускаем запрос на удаление из окна «База дан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58920" y="2368440"/>
            <a:ext cx="6275520" cy="448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стандартное сообщение об изменениях в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26920" y="3403440"/>
            <a:ext cx="7859880" cy="1785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общение о количестве удаляемых 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360" y="3103560"/>
            <a:ext cx="7210440" cy="2712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2425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нашему запросу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2079720"/>
            <a:ext cx="6443640" cy="47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ыбираем таблиц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уденты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3092400"/>
            <a:ext cx="8218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6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ираем поля для запроса. А на против поля параметра в строке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словие отбора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место условия, записываем вопрос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квадратных скобк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который будет появляться в параметрическом ок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71640" y="2593800"/>
            <a:ext cx="7715160" cy="4264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можем запустить запрос кнопкой «Запуск» на панели инструментов. Или сохранить запрос, а затем запустить его из окна «База дан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3338640"/>
            <a:ext cx="88200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открывается параметрическое окно в котором вы видите вопрос о содержимом поля. В данном случае вы должны ответить являются ли интересующие вас люди военнообязанными ил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ем «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5133960" cy="2389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таблицу, со списком всех военнообязанных и их стипенд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3059280"/>
            <a:ext cx="5826240" cy="3798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25560"/>
            <a:ext cx="7210440" cy="593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запрос, вычисляющий средний балл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вызовем простой за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3298680"/>
            <a:ext cx="57830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вычисления среднего балла по предметам, достаточно из БД «Студенты» выбрать только поля с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468520"/>
            <a:ext cx="5843520" cy="438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0:20Z</dcterms:created>
  <dc:creator>ershov</dc:creator>
  <dc:description/>
  <dc:language>en-US</dc:language>
  <cp:lastModifiedBy>ershov</cp:lastModifiedBy>
  <dcterms:modified xsi:type="dcterms:W3CDTF">2008-10-16T15:55:36Z</dcterms:modified>
  <cp:revision>5</cp:revision>
  <dc:subject/>
  <dc:title>Слайд 1</dc:title>
</cp:coreProperties>
</file>